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0CD-DFD4-4D94-BF08-46E289FF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A08-B947-4F0D-9B5B-4400665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509-873B-4C64-95F6-C479D43C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63D-6D1E-487E-8736-5E07FDCE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F51-812B-48E2-AAAF-CEC0CF8D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331-66C8-4F59-A3D2-D529F62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9DD-1CEA-4DD2-9EF3-2BDE6B17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3FF-E4AC-4C45-93DF-1B65738D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835-61CE-4E75-9DBE-E1EFBAE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061-AC8D-4518-BE6C-F653532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EC4-6E73-4C56-9754-8DB7EB0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97A-A161-4795-BED2-F71711B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F7C8-9F71-4A0F-900B-5A53555BEB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1:28Z</dcterms:modified>
  <cp:revision>216</cp:revision>
  <dc:subject/>
  <dc:title>Slide 1</dc:title>
</cp:coreProperties>
</file>